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FAC-C915-487F-8B84-4BDC84ED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E15-3EB5-4421-85B8-65CDC328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A06-129B-4291-90E3-DEE4F12B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72F-8178-4373-88D6-5A00DAA3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A6E6-214E-49D8-A8BD-956D711D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2092-A929-487F-8C0A-6A92E63A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05A1-1F98-4FF6-9C35-8BA30483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8E1E-C1A6-4B25-AD09-361ECE70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F996-95E5-4ED4-857C-5D145648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9688-7148-425B-A149-C689BBB2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B15D-B2AE-43ED-A056-5EEC262C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E0D-09E3-4990-8D55-E4A0844B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28D6-9A0B-44BC-B621-BDE3DF5F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A075-C2BE-4A57-A301-C44A57B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FE9E-FAD9-4A36-9547-59935569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BD15-468F-4940-818B-8BF3417C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0C25-3B3B-4AB5-9616-54EFDB78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CD3-E3AD-4EFC-9C6D-9BBFD284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ED2-7E0A-4B09-80F4-ADAAC69D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676-4EF9-4CC8-8E7F-5408197B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044-B68C-4006-9920-EAB8965E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3AE-C1A8-4E04-9839-56D4E21A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76C-E0C5-42FE-B4B8-F13AFE4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281-9551-4BBB-BB82-D9E6365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AA25-9453-4C80-99B2-41D5378BE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696D-B091-425F-ACF8-C9885EE88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raktat.com/language/book/synt/prost_01/vv_ko.php" TargetMode="External"/><Relationship Id="rId2" Type="http://schemas.openxmlformats.org/officeDocument/2006/relationships/hyperlink" Target="http://www.traktat.com/language/book/synt/prost_01/vv_ko.php" TargetMode="External"/><Relationship Id="rId3" Type="http://schemas.openxmlformats.org/officeDocument/2006/relationships/hyperlink" Target="http://www.traktat.com/language/book/synt/prost_01/vv_ko.php" TargetMode="External"/><Relationship Id="rId4" Type="http://schemas.openxmlformats.org/officeDocument/2006/relationships/hyperlink" Target="http://www.traktat.com/language/book/synt/prost_01/vv_ko.php" TargetMode="External"/><Relationship Id="rId5" Type="http://schemas.openxmlformats.org/officeDocument/2006/relationships/hyperlink" Target="http://www.traktat.com/language/book/synt/prost_01/vv_ko.php" TargetMode="External"/><Relationship Id="rId6" Type="http://schemas.openxmlformats.org/officeDocument/2006/relationships/hyperlink" Target="http://www.traktat.com/language/book/synt/prost_01/vv_ko.php" TargetMode="External"/><Relationship Id="rId7" Type="http://schemas.openxmlformats.org/officeDocument/2006/relationships/hyperlink" Target="http://www.traktat.com/language/book/synt/prost_01/vv_ko.php" TargetMode="External"/><Relationship Id="rId8" Type="http://schemas.openxmlformats.org/officeDocument/2006/relationships/hyperlink" Target="http://www.traktat.com/language/book/synt/prost_01/vv_ko.php" TargetMode="External"/><Relationship Id="rId9" Type="http://schemas.openxmlformats.org/officeDocument/2006/relationships/hyperlink" Target="http://www.traktat.com/language/book/synt/prost_01/vv_ko.php" TargetMode="External"/><Relationship Id="rId10" Type="http://schemas.openxmlformats.org/officeDocument/2006/relationships/hyperlink" Target="http://www.traktat.com/language/book/synt/prost_01/vv_ko.php" TargetMode="External"/><Relationship Id="rId11" Type="http://schemas.openxmlformats.org/officeDocument/2006/relationships/hyperlink" Target="http://www.traktat.com/language/book/synt/prost_01/vv_ko.php" TargetMode="External"/><Relationship Id="rId12" Type="http://schemas.openxmlformats.org/officeDocument/2006/relationships/hyperlink" Target="http://www.prosv.ru/ebooks/nikolina_russkii_8/14.htm" TargetMode="External"/><Relationship Id="rId13" Type="http://schemas.openxmlformats.org/officeDocument/2006/relationships/hyperlink" Target="http://www.prosv.ru/ebooks/nikolina_russkii_8/14.htm" TargetMode="External"/><Relationship Id="rId14" Type="http://schemas.openxmlformats.org/officeDocument/2006/relationships/hyperlink" Target="http://www.prosv.ru/ebooks/nikolina_russkii_8/14.htm" TargetMode="External"/><Relationship Id="rId15" Type="http://schemas.openxmlformats.org/officeDocument/2006/relationships/hyperlink" Target="http://www.prosv.ru/ebooks/nikolina_russkii_8/14.htm" TargetMode="External"/><Relationship Id="rId16" Type="http://schemas.openxmlformats.org/officeDocument/2006/relationships/hyperlink" Target="http://www.prosv.ru/ebooks/nikolina_russkii_8/14.htm" TargetMode="External"/><Relationship Id="rId17" Type="http://schemas.openxmlformats.org/officeDocument/2006/relationships/hyperlink" Target="http://www.prosv.ru/ebooks/nikolina_russkii_8/14.htm" TargetMode="External"/><Relationship Id="rId18" Type="http://schemas.openxmlformats.org/officeDocument/2006/relationships/hyperlink" Target="http://www.hi-edu.ru/e-books/xbook089/01/index.html?part-035.htm" TargetMode="External"/><Relationship Id="rId19" Type="http://schemas.openxmlformats.org/officeDocument/2006/relationships/hyperlink" Target="http://www.hi-edu.ru/e-books/xbook089/01/index.html?part-035.htm" TargetMode="External"/><Relationship Id="rId20" Type="http://schemas.openxmlformats.org/officeDocument/2006/relationships/hyperlink" Target="http://www.hi-edu.ru/e-books/xbook089/01/index.html?part-035.htm" TargetMode="External"/><Relationship Id="rId21" Type="http://schemas.openxmlformats.org/officeDocument/2006/relationships/hyperlink" Target="http://www.hi-edu.ru/e-books/xbook089/01/index.html?part-035.htm" TargetMode="External"/><Relationship Id="rId22" Type="http://schemas.openxmlformats.org/officeDocument/2006/relationships/hyperlink" Target="http://www.hi-edu.ru/e-books/xbook089/01/index.html?part-035.htm" TargetMode="External"/><Relationship Id="rId23" Type="http://schemas.openxmlformats.org/officeDocument/2006/relationships/hyperlink" Target="http://www.hi-edu.ru/e-books/xbook089/01/index.html?part-035.htm" TargetMode="External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«Предложения с вводными конструкциями»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666520" y="38862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студентка 4 курса КГПИ филологического факультета Машанова К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формационные ресур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.traktat.com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language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book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ynt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/prost_01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vv_ko.ph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www.prosv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ebooks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/nikolina_russkii_8/14.ht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www.hi-edu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e-books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/xbook089/01/index.html?part-035.ht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Основополагающий  вопрос нашего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 можно сделать речь выразительне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610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вводная конструкц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обособляются вводные конструкции на письм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бывают группы вводных слов по значен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дактическая цель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е у учащихся знаний о вводных конструк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20862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етодические 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учащихся с вводными конструкц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 учащихся находить в тексте вводные конструкции и правильно обособлять их знаками препи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с группами вводных слов по знач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хематическое изображение прав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оссвор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ису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еская презент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пределение по группа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05120"/>
          <a:ext cx="8007480" cy="3047760"/>
        </p:xfrm>
        <a:graphic>
          <a:graphicData uri="http://schemas.openxmlformats.org/drawingml/2006/table">
            <a:tbl>
              <a:tblPr/>
              <a:tblGrid>
                <a:gridCol w="914400"/>
                <a:gridCol w="4424400"/>
                <a:gridCol w="2668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изу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и груп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я с вводными конструкция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и препинания в предложениях с вводными конструкция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ы вводных слов по значен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должительность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ект рассчитан на 3 учебных часа. Всего 3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проведения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бор и формулировка 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формление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щита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21T05:26:5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